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0B9-032C-43CF-8BA7-EBFAF5E1B80D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0F4C-766E-44A7-A542-16B3AEFE0DFD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FEC-140A-4D06-8372-E98945AE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CDC-8A91-404D-929C-66ED5093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9C4-EC62-4176-8B15-7063511F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866-7604-4A30-9CA4-8DE101CD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90D-13D5-4925-A9B7-788F242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720-23F4-4326-8F95-54FD36C5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9AB-EA04-46E2-950A-DF45A97D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78F-B783-4232-B0FF-FB1E366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6F3-EC00-4791-B3B4-EE9CFC1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B86-6684-467F-AB1A-2101B827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786-5683-4151-8DE2-495BCE4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810-0FC9-443F-BF79-D1A96D6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9AE-EE85-4EEB-A5D8-72E8D3727046}" type="slidenum"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штита од јонизујућег зрач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560" y="1700280"/>
            <a:ext cx="801396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ректива 96/29/Еуратом од 13. маја 1996 којом се оснивају безбедносни стандарди за заштиту здравља радника и јавности против опасности које проистичу из јонизујућег зрач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ректива 97/43/Еуратом од 30. јуна 1997 заштите лица од опасности јонизујућег зрачења у односу на мед.излага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 донети на основу ових директива постоје унутар индивидуалних ЕУ држава које намећу специфичне захтеве применљиве 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матологе. Овај документ поставља опште смернице о доброј пракси у употреби од Х-зрака од стране стоматолог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95280" y="981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изиц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дијационо оштећење може се посматрати као укупно оштећење које поднос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зрачени појединац. Што се тиче стохастичких ефеката, то укључује ризик од фаталних тумора, не-фаталних тумора и ефекте на наследство током животног 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Вероватноћа радијационог стохастичког ефекта за целу популацију 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7.3 x 10-2Sv-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95520" y="3141720"/>
          <a:ext cx="6095880" cy="2020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тални ту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0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и ту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ска оштећ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611280" y="5516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Ризик је завистан од старости и највиши је за младе а најмањи за старе. Овде је дат процењен ризик за пацијента старости 30 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1397160"/>
          <a:ext cx="6096240" cy="4754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 мултипликације р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емарујући риз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2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1484280"/>
          <a:ext cx="7775280" cy="484668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236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-ray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μ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sk of f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er m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oral radiogra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itewing/peria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 - 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erior maxillary occl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ora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5 -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 - 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ral cephalome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gra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sectional tom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ingle sl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 scan (mandi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 -1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 - 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 scan (maxi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- 3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- 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зе за ЦТ су дате због повећања коришћења у планирању лечења  имплантатима од стране стоматол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изнетог може се видети да су конвенционалне  радиографије зуб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езане са малим дозама и ризицима за пацијен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ђутим, то је велики обим са милион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 радиографија годиш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от је ризичан пос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ђу многобројним ризицима којима смо склони, ми смо стално изложени позадинском 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ackground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ачењу, што у просеку износи око 2400 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ваке годин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.излагања (укључујући 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ње зуба) доприносе значајно овој цифри, са великим варијацијама од земље до земљ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ајући ово у виду, панорамски снимак може бити повезан са ефективном дозом истом као додатних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-5 дана позадинског зрачења, док су 2 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itew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радиогра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прилике једн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око један д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омпаративне сврхе, рентген плућа (20 μСв) би било једнако ок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 дана додат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позадинског зрачењ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8000" y="2060640"/>
            <a:ext cx="90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ређења могу бити између дозе радијације у стоматолошкој радиографији удружене са повећаним ризиком излагања космичким зрацима (још један високи енергетски облик ЕМ зрачења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пример,  лет из Београда до Сингапура се процењује да доведе до додатне ефективне дозе од 30 μСв, док кратак лет из Брисела до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ине ствара око дозу од око 10 μС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матолошка радиографија дозе и ризици су минимални, упоредиви, у већини случајев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а изузетком ЦТ и више 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cross-section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томографија) с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ложено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шћу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неколико дана природном позадинском зрачењ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к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зрачења подразумева ризик за пацијент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 нормалним околности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зик од  радиографије зуба је веома низак. Ипак, неопходно је да рендгенски преглед  покаже корист за 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упно потенцијална дијагностичка корист мора надмашити  штету коју изложеност појединца може изазва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фикасност, користи и ризике од доступних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лтернативних техника које имају исти циљ, али које не укључују или укључују  мањ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лагање Х-зрацима би требало узети у обзи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једна радиографија не би требало да постоји без анамнезе и клиничког прегле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"Рутинска" радиографија је неприхватљива прак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ографски  Критеријуми Упућивања су дефинисани ка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Описи клиничких услова добијених на основу знакова, симптома 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мнезе који идентификују пацијената који ће вероватно имати користи од одређен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ографског прегледа 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да упућује на радиолошки преглед, стоматолог треба да обезбеди одговарајуће клиничке информаци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 пацијенту особи одговорној за излагање јонизујућем зрачењ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оручује се да деци, када су означена као високо каријес ризичн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еба на шест месеци предузети задње битевинг радиографије 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во би требало да траје док год не престану да се појављују очигледне нове или активне лезије и дете не уђе у нижу  категорију риз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рнице су систематски развијене  да помогну лекару и пацијенту у доношењу одлука   о  здравственим поступцима за одређене специфичне клиничке окол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рнице нису круте препоруке већ концепт добре клиничке пракс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ографију за дијагнозу каријеса у деце са ниским каријес ризиком  треба да предузети имајући у вид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аленцу каријеса у популац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интервалима од 12-18 месеци (млечни) или 24 месеца (стални зуби) може да се користи, иако дужи интервали могу бити одговарајући тамо где постоји мали ризик од кариј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7640" y="1599840"/>
            <a:ext cx="8785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ји релативно мало доказа 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дности дијагностичке радиографије за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ијес код одраслих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кле, у недостатку истраживања података смернице су практично екстраполација студија у деце 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адих осо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1773000"/>
            <a:ext cx="8651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ернице 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ортодонтск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радиографије треба консултовати ка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ћ у оправдању за преглед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прављању развојем зубала код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диографија би требала да се користи 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роли 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ародонтопатиј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ак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је вероватно да ће пружити додатн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ације које би могле потенцијалн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менити ток лечења и прогно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миџинг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је од суштинског значаја 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мплантологиј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у пре-оперативно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нирању и контрол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иографија трудних пацијентки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о доза, а самим тим ризик за развој фетуса је толико ниска да није контраиндикација за радиографију жена које су или могу бити у другом стању под условом да је то клинички оправдано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ма потребе да користе заштитну кецељ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туп претходним радиографијама ће избећи непотребно излагање зрачењу и помоћи у дијагностичком алгорит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ја дата пацијентима пре  радиографије зуба треба да нагласи веома низак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зик насупрот потенцијалне користи за њихово лече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иловолтаж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око 60-70 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kV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 интраоралну радиографију се сматр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умним компромисом у избору у смислу ограничавања дозе и свестране дијагностичке ефикас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лтрација алуминијумом је кључни метод за смањење кожне дозе за пацијен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ањење величине снопа Х-зрака на минималну величину потребну за слику предмета интересовања (колимација)  је очигледно средство ограничавања доза за пацијенте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авоугаона колимација је веома ефикасан начин редукције дозе</a:t>
            </a:r>
            <a:br>
              <a:rPr sz="3000"/>
            </a:b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 интраоралној радиографији зуб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о се кружни рендгенски зраци и даље користе,  пречник снопа не сме бити већи од 60 мм. Беам колиматори  треба да буду отворени и обезбеђују минимални фокус на растојању од коже  (ФСД) од 200 м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700280"/>
            <a:ext cx="91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 је то могуће, бочни краниограм требало би да је  колимиран и да тако ограничи поље површине неопходне за дијагнозу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извођачи мора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 укључе ов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ункције у дизајн своје опрем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 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нтраоралну радиографију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RS" sz="2600" spc="-1" strike="noStrike" u="sng">
                <a:solidFill>
                  <a:srgbClr val="000000"/>
                </a:solidFill>
                <a:uFillTx/>
                <a:latin typeface="Calibri"/>
              </a:rPr>
              <a:t>најбржи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 доступни филмови у складу са задовољавајућим  дијагностичким резултатима треба да се користе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нтраорални филмови ИСО брзина групе Е или Ф се препоручују, јер они смањују дозу зрачења више од 50% у поређењу са групом филмова брзине 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 екстраоралну радиографију најбржа доступна  комбинација Екран / филм ретко земних елемената  у складу са задовољавајућим дијагностичким резултатима треба да се кори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рзина система треба да буде најмање 4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е врсте интраоралних дигиталних система су тренутно доступ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ви тип подразумева оне системе који користе слике сензора на бази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CoupledDevices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ви систем за директну дигиталну интраорал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иографију је уведен у 1989 и био је заснован на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​​сензору осетљивом на видљив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тлост.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 системи конвертују зрачење у видљиву светлост помоћу сцинтилација на екра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-зрац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зраци су врста електромагнетног (ЕМ) зрачењ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М зрачење укључује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дљиву свет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дио тал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кротал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смичко зрач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уге варијанте 'зрака'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 тип дигиталне интраоралне радиографије користи систем  за складиштење с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фсфорним плоча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 је плоча озрачена, апсорбује енергију Х-зрак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чува је као латентну слику у оквиру кристала фосфора 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 скенеру, узани ласерск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ак изазива ослобађање сачуване енергије као видљиве плаве светлости која је претвара у аналогни електронски сигнал и после то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j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дигитализуј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енирање се одвија у око 25 секунди а резултујућа слика приказана је на монитору рачунара. За разлику од 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ист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 фосфо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истеми су бежич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то јер је аквизиција слике брже с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системим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го са ПСП, она може бити корисна када је "Инстант" радиографија пожељна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супрот томе, ПСП-системи су бежични и користе плоче са већом сликом, отприлике величине бр.2 периапикалног филма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Једна од најважнијих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ности дигиталне радиографије је смањење дозе зрачењ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ите студије су показале да је количина радијације потребна за стварањ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ике за обе врсте дигиталних интраоралних система нижа него код фил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о је вероватно 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гитал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анорамс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 цефалометријс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ографи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екстраорална) може да рутински понуди смањење дозе у поређењу са конвенционалном екран / фил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а доказа да се оправда рутинско коришћење оловне заштите за гонаде у стоматолошкој радиограф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овна заштита штитасте жлезде треба да се користи у оним случајевима гд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је штитна жлезда у линији, или врло близу, примарног сн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: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окази оптималне геометрије слик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и требало да има доказа о савијању филма.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сме бити скраћења или истезања зуб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идеалном случају, не треба да буде хоризонталних преклапањ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о је преклапање присутно, оно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и требало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окриј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више од половине дебљине глеђи.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избежно због анатомских фактора (нпр. тескоба, облик зубних лукова) онда захтева додатну интраоралну или периапикалну ра-диографиј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628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: Тачна анатомска покривенос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м би требало 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рије дистал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овршине очњака 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јалне површине најудаљениј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ериорно изниклих зуб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одонтални ниво кости треба да буде видљив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 једнако приказан умаксили  и мандибули, пот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ђујући идеално центрира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Ц: Добар контраст и осветљено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фил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обар контраст треба да постоји између     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леђи и дент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Адекватан број филм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избију или делимично никну доњи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ећи молари а и сви остали зуби с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исутни два филма су неопходна са обе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тране ради приказа денти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кстремна закривљеност зубних лукова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оже да утиче на број потребних филм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екватно развијање и услови у мрачној комор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отисака ни трагова притиска на филму, нема огреботина емулз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котурова код аутоматских процесо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замагљења фил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хемијских трагова, трака, мрља, контамина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неадекватне фиксације или испир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кази оптималне геометрије сл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сме бити знакова кривљења зуба у периапикалној регији од интереса на фил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сме бити скраћења нити елонгације з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идеалном случају, не треба да буде хоризонталних преклап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о постоји преклапање оно не сме да сакрива канале пулп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ре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чна анатомска покрив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илм мора да прикаже зубе од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еса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унице и корен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м перикапикалне кости се морају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дети да би се омогућила анализ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икалне аматом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обар контраст и дензитет фил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а да постоји добра осветљеност и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раст између глеђи и ден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е се може сматрати "пакетима" енергије, који се зову фотони,  имају таласне особине, најважније таласну дужину и фреквенцију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-зраци су зраци кратке таласне дужине и високе фреквенције ЕМ зрачења.</a:t>
            </a:r>
            <a:br>
              <a:rPr sz="3000"/>
            </a:b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начај овога је да високе фреквенције значе високе енергије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Х-зраци погоде атом ова енергија може да се пренесе, производећи јонизацију ато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Адекватан број филм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третману ендодонције може бити неопходно одвојити преклопљене коренове помоћу 2 филма под различитим хоризонталним угл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ан нормалан и један под 20⁰ косог угла за све моларе и прве максиларне премола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лиза хоризонтално импактираних трећих мандибуларних молара може да захтева 2 снимка за приказ апекса: један нормалан и један више постериорни са 20⁰ косог хоризонталног уг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екватно развијање и услови у мрачној комор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отисака ни трагова притиска на филму, нема огреботина емулз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котурова код аутоматских процесо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замагљења фил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хемијских трагова, трака, мрља, контамина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неадекватне фиксације или испир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Апарати за снимање зу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и новоинсталирани апарати морају проћи критичке прегледе и детаљни тзв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eptance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ст пре употребе да би се осигурала оптимална радијациона заштита за персонал, пацијенте и окруж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и зубни рендген апарати морају се редовно прегледати ради провере да евентуално радијациона заштита за персонал, пацијенте и окружење није наруш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 провере квалитета мрачних комора и развијања филм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 провере квалитета мрачних комора и развијања филмова мора се спроводити у свакој устан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о миниму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мпература развијача се проверава пре развијања филма и време развијања према њој прилагођ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утоматски процесори (коморе) се редовно чисте и одражавају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чности у развијачу се редовно мењ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Низак ниво осветљености и конт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8840" cy="2808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108000" y="472428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довољно развијен фил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а развијача ниска, кратко време развијања, разблажене или старе теч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недовољна експонираност  филма Х-зраци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; тешка детекција кариј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више осветљен фил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121360" cy="3328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24640" y="5405400"/>
            <a:ext cx="750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више развијен фил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висока температура развијач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дуго развијање, течности преконцентроване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терана експозиција Х-зра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тешка детекција кариј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маг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742000" cy="3811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324000" y="530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ри фил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лоши услови магационирања филм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лазак светла у мрачну комору, висока температура развијача, недовољна фиксација (млечно-бледа површина)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ак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тешка детекција карије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27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Интраорални снимци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озиција фил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390760" y="1773360"/>
            <a:ext cx="4362480" cy="2857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468360" y="5084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Некоректна почетна позиција или померање филма пре експози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Губитак зоне од интереса  у овом случају апекса и периапикалног регио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клап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2131920" y="1413000"/>
            <a:ext cx="4808520" cy="3125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250920" y="48927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коректна ангулација снопа упадних Х-зрак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перпонирање круница и коренова суседних зу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сто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857320" cy="427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851280" y="2165400"/>
            <a:ext cx="3811680" cy="2082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6112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995640" y="369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3419640" y="430524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авијање филма или некоректна вертикална ангул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падног сноп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р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ко је филм пресавијен (ако није сасвим раван) слика ће на периферији бити уврнута, растегну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ко је некоректна вертикална ангул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падног сноп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рака долази или до скраћења или до елонг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B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-792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јационо оштећ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да пацијенти пролазе рендген прегледе, милиони фотона пролазе кро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њихова тел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и могу да оштете било који молекул  јонизацијом, али оштећења на ДНК  хромозома су од посебног значај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јвише оштећења ДНК је одмах поправљено, али ретко део хромозома може бити подложан сталном мењању (мутацијама)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о на крају може довести до формирања тум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анорамска радиографиј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ешке позицион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1440" y="1197000"/>
            <a:ext cx="4316400" cy="2154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512960" cy="2154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-33480" y="3500280"/>
            <a:ext cx="4348440" cy="2714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4606920" y="3351240"/>
            <a:ext cx="453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Лоша позиција 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виси од позиције Ако је пацијент сувише позади у апарату предњи зуби су увелич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Ако је пацијент сувише напред у апарату предњи зуби су преу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врнута позиција резултира асиметријом леве и десне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5408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76720" y="1333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11160" y="378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ме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857840" cy="28576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50920" y="537372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Померање пацијента током експозици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Ефеакат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Ирегуларне контуре мандибул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Локализовано сужење или увећање зуб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Вертикалне траке ирегуларне осветље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кундарне сл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19160" y="1528920"/>
            <a:ext cx="8905680" cy="38001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611280" y="5661000"/>
            <a:ext cx="7705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Метални објекти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минђуше, пирсинг..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Радиоопакне слике прекривају задње зуб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ивои доза за 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The National Commission for Radiation Protection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CRP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САД пријављују средњу дозу примљену код зубарских радника 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v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ш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лично том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Radiological Protection Board (NRPB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Великој Британији предвиђа средњи ниво од исп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1 mSv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ш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ALAR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НЦИ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 Low As Reasonably Achiev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ај принцип представља камен темељац радијационе зашт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осн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ARA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виђа све мере које могу бити разумно имплементиране а осигуравају оптималну радијациону зашти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процени шта је разумно морају се узети у обзир и економски и социјални мо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нципи заштите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марни и расути 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интраоралну радиографију доза у примарном снопу ј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Gy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 1м од извора на аноди због расутог з рачења доза је око 1000 х мања од ов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 дистанци 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од главе пацијента доза је око 4х мања од оне на дистанци од 1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расуте зраке дистанца је генерално довољна протекција у стоматолошкој пракси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интраоралне и панорамск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аниограмске снимке дистанца од прек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5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 треба да обезбеди годишњу дозу исп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mSv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од условом да оптерећење послом није прек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траоралних ил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анорамских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аниограмских снимака недељ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државање пациј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ремено је потребно помоћи детету или хендикепираним особ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расла особа која носи оловну заштиту се постави тако да су сви делови њеног тела ван зрачног сн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 придржава зубни филм само ако је неопходно, никада нико од персонала то не сме да р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268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тентни период између изложености Х-зрацима и клиничке дијагнозе тумора може да износи много год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зик од тумора кој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 одређена рендгенска доза може се проценити, стога, знање о примљеној дози  је веома важно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ако су дозе и ризици за стоматолошку радиологију мали, одређени број епидемиолошких студија пружа доказе о повећаном ризиком од тумора мозга, пљувачних жлезда и штитасте жлезде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 описане ефекте се верује да нема  прага дозе зрачења испод којих се неће десити 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и се могу сматрати ка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тохастичк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ефекти, где је величина ризика пропорционална дози зрачењ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тоје и други познати штетни ефекти зрачења, као што су катаракта ,  еритем и ефекти на плодност, који дефинитивно имају праг дозе испод којих се неће догодити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ви прагови дозе варирају у величини, али све величине су далеко веће од оних у стоматолошкој радиографији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зе зрач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рмини  доза и експозиција су у широкој употреби, али се често погрешно схватају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за се може измерити за поједина ткива или органе (на пример кожу,очи, костну срж) или за цело тело, док се експозиција обично односи на подешавање апарата (време,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,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kV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сто коришћена мера доза у истраживањима је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лазна кожна доз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ен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 милигрејима (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Gy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дност је што се веома лако може измерити постављањем дозиметра на кожу пацијент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зе зра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за зрачења се јасније изражава као ефективна доза, мерена у јединицама апсорпције по јединици масе (џула / кг) и зове се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ivert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(више обично 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icro Sy) koj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представља један милионити део сиверта). У пракси, ефективна доза с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рачунава  мерењем апсорпције енергије у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ређеним "кључним" органима у телу, тако да коначна цифра репрезентуј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тету учињену "целом телу"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 је ефективну дозу немогуће мерити ин виво, могуће је да се утврди из лабораторијских студија или компјутерским моделирањем. Ово се затим може користити за процену ризика зрачењ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4:45:28Z</dcterms:created>
  <dc:creator>nikola</dc:creator>
  <dc:description/>
  <dc:language>en-US</dc:language>
  <cp:lastModifiedBy>Milan Mijailovic</cp:lastModifiedBy>
  <dcterms:modified xsi:type="dcterms:W3CDTF">2024-08-29T09:27:41Z</dcterms:modified>
  <cp:revision>58</cp:revision>
  <dc:subject/>
  <dc:title>PowerPoint Presentation</dc:title>
</cp:coreProperties>
</file>